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2587455"/>
        <c:axId val="38214061"/>
      </c:barChart>
      <c:catAx>
        <c:axId val="82587455"/>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8214061"/>
        <c:crosses val="autoZero"/>
        <c:auto val="1"/>
        <c:lblAlgn val="ctr"/>
        <c:lblOffset val="100"/>
        <c:noMultiLvlLbl val="0"/>
      </c:catAx>
      <c:valAx>
        <c:axId val="38214061"/>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2587455"/>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76624-7291-4B40-BA40-77D544B9E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F1968-AB43-48CB-9BB6-B230BD066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091DC-E7CF-4FBC-ABB9-529820925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F6203-F389-4983-94B0-BD776A654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16C5DF-76D9-45B3-A9A7-E91AE7DE12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19086-0B26-4E4C-BFAB-B57A68411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9B3FC-6C1D-41E6-BE65-F7F3F5CCC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8DDF2-F9CC-4797-A9A9-1DFC5D159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E9C25-B6DB-432F-968C-99E6F599A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F7CAE-5FD0-4789-ADB1-6A543C41B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730B8-AB58-4D22-992D-5A3135B19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AABD5-7FDA-43A5-AE17-EF130006A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E5630-0485-44E9-9444-854974E07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4DEFB-BB5D-4325-9CF8-4F7A1C30D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EC378-E846-4065-B445-A4F6041B8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315832-593A-4F6F-8134-76F273DBD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03DA6-E555-4DF0-A4A2-B12718160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AFA82-73A4-49AD-850D-47663040B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D3ECF-7ECC-4A6C-9E34-D9C157F6F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E519F-34A1-41DE-AFE1-210E18AAC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3E3B3-A821-42D0-9BCE-4E624F399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A312A-3ADE-4F6B-80CA-BC9721C21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27D12-C3D3-425E-96A4-DD173AE9D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A0311-E0B5-4978-8008-B3CA8AF35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75E8C9-9A6A-4687-9486-7CE6E20CE4A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5CF9E7-7DCE-491F-9F01-409A1D4AE5F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