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69952157"/>
        <c:axId val="38502511"/>
      </c:barChart>
      <c:catAx>
        <c:axId val="69952157"/>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38502511"/>
        <c:crosses val="autoZero"/>
        <c:auto val="1"/>
        <c:lblAlgn val="ctr"/>
        <c:lblOffset val="100"/>
        <c:noMultiLvlLbl val="0"/>
      </c:catAx>
      <c:valAx>
        <c:axId val="38502511"/>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69952157"/>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8E38F5-867E-4804-B1FF-2084D18264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1AA0C9-F9F3-404A-9BB1-61BE581017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A88AFC-6A75-4CF2-AAC8-9EC0025765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319650-D627-477E-ABE4-8AC41D29E3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A5D4DA-5951-49B9-A209-CF6A15B6DD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83E10C-E484-4736-8767-66F3AC680F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89EF2F-8DD7-49DC-AE57-E932C7A920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8B8AC7-DD3F-4F32-9BB3-F0D6A9C8B2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160354-AE64-4AA8-B4DA-DD7359CEDB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58DD06-2BD8-4112-AC1B-69C48F772A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29F831-5F89-49A9-AFA7-F85C1290CA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4820AA-DD07-4477-BDB5-8DC56E248D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C0518D-82B7-4A9F-B757-FA13C8C641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C73A15-66FE-47D4-B004-495C3C8323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53B8A1-C989-40EA-85F0-9F71311E3A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4D2B91-BEC2-43A7-85ED-D43B06E2B3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700A2D-F4C1-4754-99F5-6699A73881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03B683-1E2C-4FAE-8E13-374158B5D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79D28C-7205-444A-9AF4-FDA2FEF4AB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CA5D46-848E-48C0-943A-8F5EB22787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F098D8-2661-4810-8F78-2C0DD7087D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FC32D-689C-461D-BEAB-1C28D0A8C8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093AE-CE4E-4913-BD17-503177FFB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1C283-96B7-414E-91F6-D41CBC1C8A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27F430-37C5-4D79-9DB0-2C622BFDEF14}"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A20C32-29B7-40C3-9CB1-20F8B15363C7}"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