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94194686"/>
        <c:axId val="964956"/>
      </c:barChart>
      <c:catAx>
        <c:axId val="94194686"/>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64956"/>
        <c:crosses val="autoZero"/>
        <c:auto val="1"/>
        <c:lblAlgn val="ctr"/>
        <c:lblOffset val="100"/>
        <c:noMultiLvlLbl val="0"/>
      </c:catAx>
      <c:valAx>
        <c:axId val="964956"/>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94194686"/>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6340D-E283-43F7-834A-3E0286AF4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D6B9B-9F38-4DE0-9CB7-F5FDAF368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9AE9B-40A8-4BBC-8EE5-435A63847F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E74C0-FB69-43E6-9F19-C13B19B304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3E84EA-1118-4984-A80A-12BFEF05D0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9B99B-050E-4A5D-A833-E214F9F08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AD7F3-5824-4861-92E2-41CE89719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9C52C-E009-4950-8D24-F469826DF6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A73DB-E421-42BC-ACDE-D6FE35B3E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4CB67-D700-4FC0-A2FD-529380A9A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FB613B-72C7-41FC-9C4F-238B00285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376C8-DEE1-4398-BAA1-FC18079C9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E3A88E-E1A3-47C9-B3F3-C261C3FBB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68B3B-A612-4F9B-B00F-42697EA70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4D7B2-C5D8-4423-8D14-38744B2A65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EDABE-1F5B-438E-AD0E-64DE3D0E91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9983F8-FE6A-4DA5-9E44-E2E99DA1E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7B5E3F-6EF3-46CC-A8BA-074629871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9C573-2A26-47F7-8516-1A11981350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76E00-1528-48ED-B802-2FC941FE0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F64D5-0987-47DF-8E31-78AAF1CE6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EEED8-19A4-407F-807A-A921B2C2C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DB8E8-F035-490E-BA15-573757792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8D9F4-B33D-48F2-B847-ABAC65103E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373003-A0EA-4A93-85B5-98F4C9FFC5FD}"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0E9B3A-09A7-429B-95A3-03CE6E68FC6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