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48802719"/>
        <c:axId val="61203673"/>
      </c:barChart>
      <c:catAx>
        <c:axId val="48802719"/>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1203673"/>
        <c:crosses val="autoZero"/>
        <c:auto val="1"/>
        <c:lblAlgn val="ctr"/>
        <c:lblOffset val="100"/>
        <c:noMultiLvlLbl val="0"/>
      </c:catAx>
      <c:valAx>
        <c:axId val="61203673"/>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8802719"/>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7AB7C-EBEC-41BE-AD9E-E2B410ABD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03358-963F-4380-9CC9-7E9789ABF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F3FB0-0F9A-422E-B7E6-0FE06E056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7852A-4B77-4A87-9C8E-EE860275A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7D634E-6604-4498-B150-2A86E49BF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29A00-228B-4C8E-89BD-2A8192E49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E2439-A45F-4A9D-8585-34AFF7F33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492D1-78CF-43B4-9E62-DE05E7D3B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22E6C-91B7-4B9B-8BE4-B2921B478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04E17-8904-44A9-BF87-C30D16A6E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3F05B-89FA-4BFC-8E2F-4045AAF90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CB430-6B33-461F-B5E5-62C8DF77E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94148-2340-4919-AB95-E05D94186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99ED5-4022-4E87-A0A5-BABE5D4BD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78CF0-A990-4232-888B-32B2191DA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8C5493-744B-432F-8663-D0BF10E9C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0F5E45-A616-4FD8-8473-69680FE041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CEB39-A175-4829-989B-58CDBBCEA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95ACE-47EC-40A5-A9F4-7F39426CF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59630-D485-4B5A-8A76-BCF852033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2A4DB-FB00-4604-964D-8E977DE8C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5A88C-FA1C-43B6-BE00-527553F91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99D0C-B08D-4A4F-9A32-54007D1FA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C2777-BC83-4A17-87F6-E4715994D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7F8AD7-416A-42C7-9A3A-AD7F2DA5CDF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23ABB4-D0F1-4B7E-ADB0-6FA0F4A490C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