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62767510"/>
        <c:axId val="48484623"/>
      </c:barChart>
      <c:catAx>
        <c:axId val="62767510"/>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48484623"/>
        <c:crosses val="autoZero"/>
        <c:auto val="1"/>
        <c:lblAlgn val="ctr"/>
        <c:lblOffset val="100"/>
        <c:noMultiLvlLbl val="0"/>
      </c:catAx>
      <c:valAx>
        <c:axId val="48484623"/>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62767510"/>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E5B45F-86B4-4224-AE02-C76C7DBFDE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061BBC-0519-48CA-8F43-F2D845C34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0E10C8-8FFD-4B27-ADD5-150659A7EB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34C3CC-3325-46F6-A913-7DE73DBAC1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BC70AE-C4D2-4359-871A-3DB2F64AF8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EF5A62-268A-4BAB-9806-496F8D2BB7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1912C5-3F45-4208-8F58-B5F9046ACC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3E620F-ADE9-4D4F-B644-1272051FCF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613549-2D70-4109-9DB8-AB435F1322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ACB506-C24B-4872-84BE-938DC13F5A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A04F52-BE42-40F9-8310-1FCFC3E7ED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A4007-ACEB-458E-8405-D00E035302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6506EB-A48B-44C6-A979-EE356E473A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E7861B-5BC7-4105-A107-05A8CC5B0A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D69778-BE50-4696-83A8-2F9AE2BE8C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715F72-1E76-4D50-8B89-0C08150CD3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B139F6-018A-4344-8882-2EC6DF72FC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51EE64-3998-4E46-9195-966A51ADE5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23ED3-4037-4916-BAE9-E792B60C44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BC850-0B39-480C-9AC3-4268E9EFFD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D22B75-4A1F-4B83-AF7C-08F7E0158D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0F16B-54F8-4B5F-AD61-FA8C5A110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23FB4-D9E7-4653-AA54-FF57B755B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CE76F-BE34-4C36-B513-5836434FB2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C4DE7C-D15D-45D2-AD0F-79A05BD2710E}"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8CC3CB-58A5-4774-B610-A463EAA7CF1A}"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