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D92ED-DD3C-45BA-B4F1-12B3BF67D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07777-6171-46BF-8F96-7033748DD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20123-FB9E-4E5A-B764-EEA573DC7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7847E-3E16-4C80-94E0-5804416E7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586D3-6A2F-428B-A600-88EA2433E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1B4C2-CF10-47F2-8E03-630F6EE52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5309D-918D-4E4E-A7C2-93177BB28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1865D-E50E-4D83-A3F8-D6C10E29C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B9F67-BE94-460F-83F1-322CD9855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89A91-D139-4AD7-92B4-47213A3D6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35264-8FD0-4CDE-9382-31A03CB53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F2BDF-1244-4101-B5DD-24D019FDD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EDB21-9614-405C-ADD4-04B974F8E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F4134-CA98-4CD8-B5E1-2135E3EA6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B3A57-D2AA-4EAC-8DF4-BC6016D29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0F8B7-FD40-45F7-B93C-6B48F3A15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FE346-E70B-43A1-B1E3-18521FC44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DE14E-CB4B-48E2-AB86-1EAD9763E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6FAC0-102A-46D5-A135-624FBF36D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B846C-4C9C-4027-9041-24AA19280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33589-1B9E-4099-8902-C617580F0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8A0A3-4591-40F2-B809-5EDFBE8DB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627CD-03E8-4431-B87B-E9DC9644E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EF5ED-7E4C-4650-9F68-2414492EF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13218-75E1-4E77-9585-BB22C9FFAB45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FFA9D-1BB2-43F7-AA20-1ADE220439A7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How To Use PowerPoint</a:t>
            </a:r>
            <a:br>
              <a:rPr sz="3600"/>
            </a:b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A Brief Introduction to Commonly Used Features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dvanced AutoShap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98" name="Group 19"/>
          <p:cNvGrpSpPr/>
          <p:nvPr/>
        </p:nvGrpSpPr>
        <p:grpSpPr>
          <a:xfrm>
            <a:off x="1981080" y="4800600"/>
            <a:ext cx="1523880" cy="1143000"/>
            <a:chOff x="1981080" y="4800600"/>
            <a:chExt cx="1523880" cy="1143000"/>
          </a:xfrm>
        </p:grpSpPr>
        <p:sp>
          <p:nvSpPr>
            <p:cNvPr id="99" name="AutoShape 4"/>
            <p:cNvSpPr/>
            <p:nvPr/>
          </p:nvSpPr>
          <p:spPr>
            <a:xfrm>
              <a:off x="1981080" y="4800600"/>
              <a:ext cx="1523880" cy="1143000"/>
            </a:xfrm>
            <a:prstGeom prst="flowChartProcess">
              <a:avLst/>
            </a:prstGeom>
            <a:solidFill>
              <a:srgbClr val="9933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0" name="Text Box 10"/>
            <p:cNvSpPr/>
            <p:nvPr/>
          </p:nvSpPr>
          <p:spPr>
            <a:xfrm>
              <a:off x="2057040" y="518184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On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1" name="Group 22"/>
          <p:cNvGrpSpPr/>
          <p:nvPr/>
        </p:nvGrpSpPr>
        <p:grpSpPr>
          <a:xfrm>
            <a:off x="5638680" y="4800600"/>
            <a:ext cx="1523880" cy="1143000"/>
            <a:chOff x="5638680" y="4800600"/>
            <a:chExt cx="1523880" cy="1143000"/>
          </a:xfrm>
        </p:grpSpPr>
        <p:sp>
          <p:nvSpPr>
            <p:cNvPr id="102" name="AutoShape 6"/>
            <p:cNvSpPr/>
            <p:nvPr/>
          </p:nvSpPr>
          <p:spPr>
            <a:xfrm>
              <a:off x="5638680" y="4800600"/>
              <a:ext cx="1523880" cy="1143000"/>
            </a:xfrm>
            <a:prstGeom prst="flowChartProcess">
              <a:avLst/>
            </a:prstGeom>
            <a:solidFill>
              <a:srgbClr val="00ff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3" name="Text Box 13"/>
            <p:cNvSpPr/>
            <p:nvPr/>
          </p:nvSpPr>
          <p:spPr>
            <a:xfrm>
              <a:off x="5714640" y="518148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Two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4" name="Group 21"/>
          <p:cNvGrpSpPr/>
          <p:nvPr/>
        </p:nvGrpSpPr>
        <p:grpSpPr>
          <a:xfrm>
            <a:off x="3505320" y="4724280"/>
            <a:ext cx="2133000" cy="1202760"/>
            <a:chOff x="3505320" y="4724280"/>
            <a:chExt cx="2133000" cy="1202760"/>
          </a:xfrm>
        </p:grpSpPr>
        <p:grpSp>
          <p:nvGrpSpPr>
            <p:cNvPr id="105" name="Group 20"/>
            <p:cNvGrpSpPr/>
            <p:nvPr/>
          </p:nvGrpSpPr>
          <p:grpSpPr>
            <a:xfrm>
              <a:off x="3505320" y="5029200"/>
              <a:ext cx="2133000" cy="609480"/>
              <a:chOff x="3505320" y="5029200"/>
              <a:chExt cx="2133000" cy="609480"/>
            </a:xfrm>
          </p:grpSpPr>
          <p:sp>
            <p:nvSpPr>
              <p:cNvPr id="106" name="AutoShape 5"/>
              <p:cNvSpPr/>
              <p:nvPr/>
            </p:nvSpPr>
            <p:spPr>
              <a:xfrm>
                <a:off x="3962160" y="5029200"/>
                <a:ext cx="1142640" cy="609480"/>
              </a:xfrm>
              <a:prstGeom prst="flowChartDecision">
                <a:avLst/>
              </a:prstGeom>
              <a:solidFill>
                <a:srgbClr val="ffff00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7" name="Line 7"/>
              <p:cNvSpPr/>
              <p:nvPr/>
            </p:nvSpPr>
            <p:spPr>
              <a:xfrm>
                <a:off x="3505320" y="5333760"/>
                <a:ext cx="45684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8" name="Line 8"/>
              <p:cNvSpPr/>
              <p:nvPr/>
            </p:nvSpPr>
            <p:spPr>
              <a:xfrm>
                <a:off x="5105160" y="5333760"/>
                <a:ext cx="53316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109" name="Text Box 14"/>
            <p:cNvSpPr/>
            <p:nvPr/>
          </p:nvSpPr>
          <p:spPr>
            <a:xfrm>
              <a:off x="3733560" y="4724280"/>
              <a:ext cx="159984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Research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&amp;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Developmen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y selecting several AutoShapes and right-clickig, you can group them togethe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50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mbedding Vide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46483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o Play a Video in Your Slide Show, go to “Insert” and Place your Mouse Over “Movies and Sounds” then Select “Movie From File”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4" name="slide.mpg" descr=""/>
          <p:cNvPicPr/>
          <p:nvPr/>
        </p:nvPicPr>
        <p:blipFill>
          <a:blip r:embed="rId1"/>
          <a:stretch/>
        </p:blipFill>
        <p:spPr>
          <a:xfrm>
            <a:off x="5486400" y="3451320"/>
            <a:ext cx="3044880" cy="2028600"/>
          </a:xfrm>
          <a:prstGeom prst="rect">
            <a:avLst/>
          </a:prstGeom>
          <a:ln w="0">
            <a:noFill/>
          </a:ln>
        </p:spPr>
      </p:pic>
      <p:sp>
        <p:nvSpPr>
          <p:cNvPr id="115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44979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" dur="1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0T21:18:44Z</dcterms:created>
  <dc:creator>user</dc:creator>
  <dc:description/>
  <dc:language>en-US</dc:language>
  <cp:lastModifiedBy>Miral</cp:lastModifiedBy>
  <dcterms:modified xsi:type="dcterms:W3CDTF">2015-09-13T10:22:33Z</dcterms:modified>
  <cp:revision>33</cp:revision>
  <dc:subject/>
  <dc:title>Test PowerPoint FIle</dc:title>
</cp:coreProperties>
</file>