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6635232"/>
        <c:axId val="32320079"/>
      </c:barChart>
      <c:catAx>
        <c:axId val="7663523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2320079"/>
        <c:crosses val="autoZero"/>
        <c:auto val="1"/>
        <c:lblAlgn val="ctr"/>
        <c:lblOffset val="100"/>
        <c:noMultiLvlLbl val="0"/>
      </c:catAx>
      <c:valAx>
        <c:axId val="3232007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663523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C4BA5-6A9E-4D55-8C9A-AD5F64381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38E50-190B-4E07-B50C-388C89C11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E980B-E2AE-4EBC-90A7-32A161C6C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074AE-9918-4EE1-B8ED-59817D280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E2CCA-47BD-4DC3-8E51-AA13417B2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6C405-BB6D-4651-831D-E4CF8218A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5253D-3D61-4CB4-BAAD-7009F4D4B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E1945-6ABD-4319-9F52-910FFFE88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6B589-7D1F-49DC-9F75-9168EA53D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E16EC-9E0F-480C-9876-9B928B1AD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602E5-E7E5-459A-9B57-9BCFA6738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45ADD-2A98-4C60-83EF-224077E96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76EDD-EA9E-4D58-A5EE-895253F8D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81FD8-083E-4F78-91D4-FEB812927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DFB07-237E-4F3D-B83B-B5F279BC5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5A849-BE96-4367-B8DB-BD615DB0A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1879C-F455-4260-84B0-98BBF4DA8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C5327-9946-424F-97D2-DDBEB91D8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B4848-1A65-4ADF-8C0D-79C88897D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84FA9-D6C8-4578-8A83-5792F821C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5F633-2D10-49D7-A111-E8036137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FDF66-D587-4534-8869-049480D2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32532-28C6-440A-A653-5E54B1F0F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6BFF8-179C-4739-A5EE-FFE811269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B6D679-2D2B-40C0-822A-0FD2581CEAF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E2CD04-7F9B-47AF-B292-5AD95E33CD7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