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9090794"/>
        <c:axId val="99469273"/>
      </c:barChart>
      <c:catAx>
        <c:axId val="69090794"/>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9469273"/>
        <c:crosses val="autoZero"/>
        <c:auto val="1"/>
        <c:lblAlgn val="ctr"/>
        <c:lblOffset val="100"/>
        <c:noMultiLvlLbl val="0"/>
      </c:catAx>
      <c:valAx>
        <c:axId val="99469273"/>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909079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5024B-8C8A-4568-ACED-E28B5ABCE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03128-2C8D-44A7-8E7E-D441572DB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1C4D5-A548-47F0-A4FA-CE8771042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FECE7-EB3E-4EBF-A495-0A6670E8D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9C599-50F0-4C0E-A636-56367AAD1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37AEE-9B65-44E2-961C-5568CF963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4240F-0E28-4400-98EF-6B1721059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67AAA-2062-4CB7-A99F-9A3C80594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6CBCB-0E90-42B6-92B7-06BB4CAF1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A1730-BFDA-4B18-9A12-6428413CA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01EBB-F431-4A53-9C31-D1409C69E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1BC77-D2E0-4D51-A373-2F6D6970F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D8731-30F1-4A87-B8D5-8E728EDC2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6CF60-B284-48AE-B7AC-8D8BFB59E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0B372-AF04-4F51-A6BE-F37CF9CE2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F0C26-6776-4E67-807F-77494291A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86D04-736F-4EA6-90EE-1B384EA41D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2878F-2413-422B-893B-7412383B0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47A0E-7DFA-4E60-A4CF-E5CC4C0D6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EB380-5EC9-4D27-9B88-6DA510608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35895-306F-4E2D-A8EE-A0EAEF8CA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DE4E7-7351-4421-B3A3-2618C5F49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24012-3454-488A-9246-847D148C3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DF1DF-F8AB-43C6-8AE3-70A10A9E3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35AA5E-F674-41CC-BCFB-C97C083749E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6D5FBF-B77B-46F0-9F51-7329F74F312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