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22878393"/>
        <c:axId val="31726939"/>
      </c:barChart>
      <c:catAx>
        <c:axId val="22878393"/>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1726939"/>
        <c:crosses val="autoZero"/>
        <c:auto val="1"/>
        <c:lblAlgn val="ctr"/>
        <c:lblOffset val="100"/>
        <c:noMultiLvlLbl val="0"/>
      </c:catAx>
      <c:valAx>
        <c:axId val="3172693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2878393"/>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B6A6F-F41E-47FF-B47A-D1649ABC9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D019B-EBCE-4C0A-9FF2-54C063E13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5514E-8C20-44FC-B329-FC984060D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F9371-7EB1-4B05-9345-60EDA49F5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C2815-EEC4-40DA-B721-85DCD6E05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A5F6B-5F16-47F2-B37A-9BC7E0E5D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52159-A0C5-4833-A877-49C8EE0CD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33BD1-7689-4155-A125-111997B1B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4EA02-378D-484A-BFB6-3CF94C713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CD3B5-431F-41CA-9822-1D527B4F3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8CA0F-A1AA-43B2-92DE-259DD892E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0DD7C-3B32-48AB-80AA-750B71A68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6654F-FFF6-4AB2-9996-BD68B3838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FD19C-0464-49F6-ACBF-6C55D91D8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F8FA1-A5B8-46C8-AC70-7975E213E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5F026-72D0-4684-A044-AC9E9BA50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2F1E1-2675-40BE-BD3E-407839A3B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33A83-A93B-4868-A090-C1845BFF7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F6214-8A72-43DA-95BE-0FEDE159C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B6573-1187-4A9B-8767-A4438ED5A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DDE26-B29E-48BC-849F-F9B4CF2F7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FEC7A-8A30-4C73-B07E-AE94B52BF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38EA8-64D2-4B15-9C98-5DBB4ADBD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62457-474B-411C-AE0F-7DAD50CC1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7C33E-2FA2-4E5D-AC4C-CA395793428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B88CF-79D4-47D4-9343-1DACC0FE320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