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0A3A-76E9-4E6B-9931-08EBFD94C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F337-D523-4D7D-BC1B-393197B34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A18F-87DF-4802-9C37-623A9652D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7FE0-B7EB-4F03-9D15-EEBA1D8F6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4B3EF-0D27-4392-99E1-E1ABDFEB4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02E72-AF75-4205-8FCD-2A99ADDC7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75A63-7407-4787-9F0F-CC6D5D561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76F52-B1C6-4804-9142-62EDCACA5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27A51-DD26-49F5-A462-11CCF502C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2CE24-F58D-4BD2-ACAE-6896781CB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87E6C-BDB0-4D6E-9B9F-24828BDBD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41CB-6EE7-4D85-92CB-1A66943AB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2AD0A-ACA7-4991-8032-D0B12D08B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C7796-4CA3-44BE-8CBE-4261FB8DD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31321-410D-45B0-80E8-C27900ED6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A94DB-245C-412B-B106-108806E9B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2D558-543A-4693-BD30-F824105A9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4E59-8956-48BD-AFCF-37DAF9931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1012-278C-43CF-BA5F-C242D785D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45AB-68E1-4E51-89D4-8C13C01F1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3DF7-8626-46C2-A4BA-5EF3121FB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29BF-67C1-4650-90C7-15F95115C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44F8-796E-42F6-AA72-A3CCCECBC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C9FD-6BE5-4221-91C5-2C52149E0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EC82F-5B06-4F38-80D5-C8FA5EB9FA18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2EB6D-4707-49BB-9065-2B0C816AB82D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w To Use PowerPoint</a:t>
            </a:r>
            <a:br>
              <a:rPr sz="36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 Brief Introduction to Commonly Used Featur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vanced AutoShap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8" name="Group 19"/>
          <p:cNvGrpSpPr/>
          <p:nvPr/>
        </p:nvGrpSpPr>
        <p:grpSpPr>
          <a:xfrm>
            <a:off x="1981080" y="4800600"/>
            <a:ext cx="1523880" cy="1143000"/>
            <a:chOff x="1981080" y="4800600"/>
            <a:chExt cx="1523880" cy="1143000"/>
          </a:xfrm>
        </p:grpSpPr>
        <p:sp>
          <p:nvSpPr>
            <p:cNvPr id="99" name="AutoShape 4"/>
            <p:cNvSpPr/>
            <p:nvPr/>
          </p:nvSpPr>
          <p:spPr>
            <a:xfrm>
              <a:off x="1981080" y="4800600"/>
              <a:ext cx="1523880" cy="1143000"/>
            </a:xfrm>
            <a:prstGeom prst="flowChartProcess">
              <a:avLst/>
            </a:prstGeom>
            <a:solidFill>
              <a:srgbClr val="99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Text Box 10"/>
            <p:cNvSpPr/>
            <p:nvPr/>
          </p:nvSpPr>
          <p:spPr>
            <a:xfrm>
              <a:off x="2057040" y="518184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On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1" name="Group 22"/>
          <p:cNvGrpSpPr/>
          <p:nvPr/>
        </p:nvGrpSpPr>
        <p:grpSpPr>
          <a:xfrm>
            <a:off x="5638680" y="4800600"/>
            <a:ext cx="1523880" cy="1143000"/>
            <a:chOff x="5638680" y="4800600"/>
            <a:chExt cx="1523880" cy="1143000"/>
          </a:xfrm>
        </p:grpSpPr>
        <p:sp>
          <p:nvSpPr>
            <p:cNvPr id="102" name="AutoShape 6"/>
            <p:cNvSpPr/>
            <p:nvPr/>
          </p:nvSpPr>
          <p:spPr>
            <a:xfrm>
              <a:off x="5638680" y="4800600"/>
              <a:ext cx="1523880" cy="114300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Text Box 13"/>
            <p:cNvSpPr/>
            <p:nvPr/>
          </p:nvSpPr>
          <p:spPr>
            <a:xfrm>
              <a:off x="5714640" y="51814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Tw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4" name="Group 21"/>
          <p:cNvGrpSpPr/>
          <p:nvPr/>
        </p:nvGrpSpPr>
        <p:grpSpPr>
          <a:xfrm>
            <a:off x="3505320" y="4724280"/>
            <a:ext cx="2133000" cy="1202760"/>
            <a:chOff x="3505320" y="4724280"/>
            <a:chExt cx="2133000" cy="1202760"/>
          </a:xfrm>
        </p:grpSpPr>
        <p:grpSp>
          <p:nvGrpSpPr>
            <p:cNvPr id="105" name="Group 20"/>
            <p:cNvGrpSpPr/>
            <p:nvPr/>
          </p:nvGrpSpPr>
          <p:grpSpPr>
            <a:xfrm>
              <a:off x="3505320" y="5029200"/>
              <a:ext cx="2133000" cy="609480"/>
              <a:chOff x="3505320" y="5029200"/>
              <a:chExt cx="2133000" cy="609480"/>
            </a:xfrm>
          </p:grpSpPr>
          <p:sp>
            <p:nvSpPr>
              <p:cNvPr id="106" name="AutoShape 5"/>
              <p:cNvSpPr/>
              <p:nvPr/>
            </p:nvSpPr>
            <p:spPr>
              <a:xfrm>
                <a:off x="3962160" y="5029200"/>
                <a:ext cx="1142640" cy="609480"/>
              </a:xfrm>
              <a:prstGeom prst="flowChartDecisi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7" name="Line 7"/>
              <p:cNvSpPr/>
              <p:nvPr/>
            </p:nvSpPr>
            <p:spPr>
              <a:xfrm>
                <a:off x="3505320" y="5333760"/>
                <a:ext cx="4568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8" name="Line 8"/>
              <p:cNvSpPr/>
              <p:nvPr/>
            </p:nvSpPr>
            <p:spPr>
              <a:xfrm>
                <a:off x="5105160" y="5333760"/>
                <a:ext cx="53316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09" name="Text Box 14"/>
            <p:cNvSpPr/>
            <p:nvPr/>
          </p:nvSpPr>
          <p:spPr>
            <a:xfrm>
              <a:off x="3733560" y="4724280"/>
              <a:ext cx="15998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Research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&amp;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Developmen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selecting several AutoShapes and right-clickig, you can group them togeth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mbedding Vide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48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Play a Video in Your Slide Show, go to “Insert” and Place your Mouse Over “Movies and Sounds” then Select “Movie From File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slide.mpg" descr=""/>
          <p:cNvPicPr/>
          <p:nvPr/>
        </p:nvPicPr>
        <p:blipFill>
          <a:blip r:embed="rId1"/>
          <a:stretch/>
        </p:blipFill>
        <p:spPr>
          <a:xfrm>
            <a:off x="5486400" y="3451320"/>
            <a:ext cx="3044880" cy="2028600"/>
          </a:xfrm>
          <a:prstGeom prst="rect">
            <a:avLst/>
          </a:prstGeom>
          <a:ln w="0">
            <a:noFill/>
          </a:ln>
        </p:spPr>
      </p:pic>
      <p:sp>
        <p:nvSpPr>
          <p:cNvPr id="11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4979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21:18:44Z</dcterms:created>
  <dc:creator>user</dc:creator>
  <dc:description/>
  <dc:language>en-US</dc:language>
  <cp:lastModifiedBy>Miral</cp:lastModifiedBy>
  <dcterms:modified xsi:type="dcterms:W3CDTF">2015-09-13T10:22:33Z</dcterms:modified>
  <cp:revision>33</cp:revision>
  <dc:subject/>
  <dc:title>Test PowerPoint FIle</dc:title>
</cp:coreProperties>
</file>