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1155032"/>
        <c:axId val="22034152"/>
      </c:barChart>
      <c:catAx>
        <c:axId val="1155032"/>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2034152"/>
        <c:crosses val="autoZero"/>
        <c:auto val="1"/>
        <c:lblAlgn val="ctr"/>
        <c:lblOffset val="100"/>
        <c:noMultiLvlLbl val="0"/>
      </c:catAx>
      <c:valAx>
        <c:axId val="22034152"/>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155032"/>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BB306-DDB3-4969-954B-343DF24F1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4B63C-1B1F-42CF-9ED4-66D7271F4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08C3C-2023-4CD1-B1B6-FD35CEBAC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E7856-18B5-48A2-ACF2-90BAC34F0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3A1777-8DB7-48FB-83CE-33250352B9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A086D-7608-4A92-8207-D4A968CF3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547D8-BD18-4D3B-86C8-72FBB6D36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8F03E-C753-4F1C-BCBC-8F4E3F02D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9C8AA-CE30-4902-B5B4-B152B4CC3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3B715-8BE2-416F-80F3-012C4D974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CACA9-0A49-4617-8078-E0E306201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8A67E-23CE-473E-AB11-28A4A10F5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2DB49-EC2C-40B7-B2CD-7C8B87E6A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96038-0C05-4102-84BE-32E5F3ED3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68B29-AD23-46D2-87A7-0EA3F27A4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5A6562-671D-48E4-84C4-BA3F0BB26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67769B-6E24-495F-8E71-2D489CFEEF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46E6B-EA6C-4F4F-ABAE-615A52F8B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B9E52-ED60-430A-B2FE-44743DE65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048E1-7891-4D72-98C4-C7D87FDF0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CC5CE-F72D-4397-9272-C97FB30FC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89311-1CA1-45FB-B12F-1483B1371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930FC-E5E9-4983-8B48-B222A9956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A8D06-8338-43B5-B149-A0A4D289E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F28876-950E-46BC-8CBE-9C5A5E360AD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39B1A0-AC81-4F48-8509-CAE8854F3DE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