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0779273"/>
        <c:axId val="26642678"/>
      </c:barChart>
      <c:catAx>
        <c:axId val="9077927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642678"/>
        <c:crosses val="autoZero"/>
        <c:auto val="1"/>
        <c:lblAlgn val="ctr"/>
        <c:lblOffset val="100"/>
        <c:noMultiLvlLbl val="0"/>
      </c:catAx>
      <c:valAx>
        <c:axId val="26642678"/>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077927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9B582-E20D-40DF-8B7E-31B5514D4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01BC3-3C53-4FB4-B056-A3D61AB14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72B11-69D7-46D7-863B-8322ECE6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4BF23-7351-4694-8F51-5A8EB56FF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5C0C7-4EA3-4410-9F0F-6BEE57DAE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8AC7-8093-463B-B4E0-1239FE583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68008-A939-4117-B394-5AAB4EDCE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A14CC-1B0F-4B39-8758-88292F8E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503D8-C033-411C-B296-E707F675A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C5E08-4007-430B-BB0F-13C7C2BB5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0824-0775-4E23-8BAD-FB4BF536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ABDE-D80D-4CC8-A7E8-B6D070B71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9987-8590-4D27-A89A-8744A844D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E9E7-FE5E-4DBE-A6DE-BAACD1A5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7E4FB-B548-49D0-9BF3-0E8E2146C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6FC40-6F9C-4088-AD2A-FC7F10170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6A76B-215F-40CB-9F72-C4D4FC902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D976E-0804-4372-BAAB-8557F0D7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D5FC-2C92-4A7B-960D-D70791FE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2229-52A7-4DAD-879A-94552B1C0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DC4D-BC7A-4708-A509-814463D3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17BC-E124-4C7C-B250-CEAB0A30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48DD9-2104-4B39-984C-101A179A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50F2-4368-455F-95C9-EDB8CD179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09F15-8F59-48CF-A62B-8FA03727DFF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E2712-AD7D-440A-9FC2-0613228A208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