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2829121"/>
        <c:axId val="62034469"/>
      </c:barChart>
      <c:catAx>
        <c:axId val="72829121"/>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2034469"/>
        <c:crosses val="autoZero"/>
        <c:auto val="1"/>
        <c:lblAlgn val="ctr"/>
        <c:lblOffset val="100"/>
        <c:noMultiLvlLbl val="0"/>
      </c:catAx>
      <c:valAx>
        <c:axId val="6203446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2829121"/>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69869-5C65-487B-A26F-E63128BD1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E0A05-2846-4BB5-B9A0-C38ACB119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8AC30-76B7-4A65-ACD6-F1BFA6787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154BD-1110-4896-9136-25A73DEAB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5F416-C1D2-4CD1-80CE-885043450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7ED3B-D6D3-4536-898A-B04C77E17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DF03A-A1CC-49A6-9974-91763AED2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96C2D-8D74-4A66-9A02-D9151561D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F118C-1CD5-48DB-BFDA-543945CB8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F57DB-8A81-4C82-857F-5E93D3603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3A03C-AD4C-4965-8079-25DAC1A9F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3F369-C1F8-4D10-A525-4C5DFA8A2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5C2F7-0BE8-452C-8F70-27F612C51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38A27-5664-4B06-A3BD-F6688C324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1E49B-8D29-4A27-8EB6-FF6A0B02C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BC6F2-BBA4-43BF-8F05-EB698C352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AE132-AE1F-4FC3-BC11-FF09A551D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2650C-27B2-4202-AEE7-DB5233110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65183-F1C8-4D0E-B34E-559BCF1D3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D7773-12DC-49DA-AC6A-E3C5AF75A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75F63-7A48-4E71-8AAA-D53D3F82D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5A73D-449B-4EB9-8E76-DE2D3F64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0E0C1-25D8-44A3-87DA-92224A248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DB308-6D4D-4D42-9032-DCDF61B4D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004ED3-AB9C-44E5-AB75-8AB471CCB91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430316-E911-450B-BB88-2CA7E1C7102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