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51879752"/>
        <c:axId val="82524517"/>
      </c:barChart>
      <c:catAx>
        <c:axId val="51879752"/>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2524517"/>
        <c:crosses val="autoZero"/>
        <c:auto val="1"/>
        <c:lblAlgn val="ctr"/>
        <c:lblOffset val="100"/>
        <c:noMultiLvlLbl val="0"/>
      </c:catAx>
      <c:valAx>
        <c:axId val="82524517"/>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51879752"/>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04AAB-140B-413B-A20F-52F05F32F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391D2-3637-4066-8344-2DAB67FE8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4E67F4-1A40-4AD2-A631-31FB43DEF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0DFE4B-814A-40C6-B163-0AC30A10C4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54C256-4752-4B24-8226-315623F86B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61A77-DB46-434C-92F7-6CD78941B1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B47392-C0A7-45A6-A7D2-D3B4791AE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BE64D9-7D04-48C4-A30D-8C43DBE0E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14D95C-5B7E-42EF-BE71-A97B30286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DF5190-55D6-483B-AB93-F293A5402A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657C10-9CB3-415D-9EBD-5452FC2D8E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8147CE-BF3D-43B4-81A2-EC397CC05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44584-460B-442D-9B66-BCF5EF9A30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28E64-5AB4-4419-9E6B-033A7C874B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FCB415-84E2-4DF4-AF06-DCA580D316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95B0C0-CAD6-4454-9C0E-11F353B607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CFC3CD-B774-4FCB-9D7A-8B77952F1E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2B668-5C33-4A19-8C04-4C421296A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E966ED-F9B6-4332-8274-8AF170E8E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3ABC9-F7BF-46DE-BBB1-9CB553BCA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519E0-1AB3-409E-8158-C30A64A74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CF465-0632-40EC-94F2-FD705CC6B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1F1384-2B1A-4F31-A95E-8871D81AF7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074B0-20A9-46D3-AD01-219FEDB9B3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380349-4FBC-4CA2-84C1-04859DF9F501}"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F33049-8D89-45A3-93AC-34D747984709}"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