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4394278"/>
        <c:axId val="30835108"/>
      </c:barChart>
      <c:catAx>
        <c:axId val="64394278"/>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0835108"/>
        <c:crosses val="autoZero"/>
        <c:auto val="1"/>
        <c:lblAlgn val="ctr"/>
        <c:lblOffset val="100"/>
        <c:noMultiLvlLbl val="0"/>
      </c:catAx>
      <c:valAx>
        <c:axId val="3083510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4394278"/>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9996F-FC82-4745-8DE8-02C802A46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34310-4BC1-448B-B939-C9B3605F8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7298B-CCF4-463B-9660-3411E6400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BAE9F-FFE4-4E3D-BF93-E98684DB1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0F2A0-A456-451D-9C9C-81DBC127C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CEA80-BE0B-458C-9C06-23128E0E4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78C4D-1468-45A3-A22E-A2FDFA6FE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3D695-DEE9-418D-9647-4BF0B80B4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74A78-5620-4F05-836B-3260E68D0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C78B0-52C8-462C-BB3D-C93547846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FB5A4-16FC-4409-9E05-4639A2D8D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660A2-501D-46A9-B52E-9E42B0966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DBD3D-2014-4A8D-8352-D9C891DFB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C794D-CC4B-46BD-9012-B1EFB32B8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DB5EE-6833-4983-A4AE-6ACE9126D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F0FEB-4440-47EB-80F3-2DF14DC09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BDD5B-4571-4F7B-9A90-C2F65C515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D2516-ED2A-44D2-AE12-F318D5367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C3304-6D1A-471E-876A-4C8D1B795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E9CE5-1D5A-492B-908B-C6542E88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4ABF1-F7C9-4E13-9F69-46DC0C2B8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D946E-DA2F-4FDD-92B4-5CA91307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D552-0899-4814-A36D-AB144932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6B19-0E13-4933-8EF2-F4B97F837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6DD194-8073-4113-AF81-6D0B92A6249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C7C0E2-2F1F-4C81-B8BD-D2901926F71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