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3998115"/>
        <c:axId val="14872125"/>
      </c:barChart>
      <c:catAx>
        <c:axId val="5399811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4872125"/>
        <c:crosses val="autoZero"/>
        <c:auto val="1"/>
        <c:lblAlgn val="ctr"/>
        <c:lblOffset val="100"/>
        <c:noMultiLvlLbl val="0"/>
      </c:catAx>
      <c:valAx>
        <c:axId val="14872125"/>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399811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4C4BB-FB7E-44D9-AFBC-FC24F7B8C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E053D-19AC-4F1D-99FE-4C7D38BD8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88E3C-B893-4367-AF31-10B478769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9B672-2C11-4135-8C56-FBC0648DC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AE3E2-96A7-4072-8522-B920ABA9C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5DDF9-91C6-4285-B315-B8E635C81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4189C-D09A-49D2-8679-8E6E70F57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B5CCE-D187-49A0-A52B-D92649E9E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52122-66FF-4928-9602-F572769FC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CE7E7-9156-4134-89C6-E4D255ECE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382C8-C512-4EDA-8517-90A1990D4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3F39A-BB50-425E-916D-E05D9D84C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01E4A-E773-426B-9346-1E6CBB9F3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45DD0-EF44-4EF5-AD58-BAFC1B875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E6128-3060-4544-8F6D-24281D771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0C788-4E59-47F0-AD0E-50FA2A26E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2757F-787B-4FE2-B89A-1D0907C2F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D8A4F-442C-4395-B3CF-39AC374CF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1BDCE-BA39-4590-BA79-09B2AF29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44DC9-03D6-4425-AA2E-8B1CA30BD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A362A-C32F-41BA-8ACD-7D16B882F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22BB-667B-49FC-A072-712C51644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4710-C836-488B-B64C-1EA8819C2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047E4-E19F-4F7D-9972-35034E7DC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19AD35-9EB0-4650-920E-4FEE133AECA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8C6BCF-D440-4C8A-9841-D17A2DCA86A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