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19025023"/>
        <c:axId val="73306256"/>
      </c:barChart>
      <c:catAx>
        <c:axId val="19025023"/>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3306256"/>
        <c:crosses val="autoZero"/>
        <c:auto val="1"/>
        <c:lblAlgn val="ctr"/>
        <c:lblOffset val="100"/>
        <c:noMultiLvlLbl val="0"/>
      </c:catAx>
      <c:valAx>
        <c:axId val="7330625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9025023"/>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F7EB9-3FF8-437A-98AE-5A567AF9B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D064D-2411-4E99-9FC9-14B398586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A73C1-1ABA-4E00-A500-D62EB1135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7E1EF-E696-4A44-BB6E-374A73511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3FADFD-F482-417A-9853-9A653DFADF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431C9-F14B-459C-A5B7-F09F2C020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058F0F-2B05-4ECB-9115-C7ADC895C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3AD4B-2C7B-4C81-A2FD-7C478D6C05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FBBED-EFCF-4175-9745-3A1C9342DF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C4497-2C0A-40F4-A034-722510FEA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B9364-BA00-4FC2-872E-5EF5D2876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EA457-F8CF-49F6-A57B-34D2D678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F7575-F6A6-4F51-A3FC-DB1D129DA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371B-4C36-4322-8730-282BC484D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6157E-95D9-4F06-AF90-3D873A4A20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032933-A0C4-48DE-9C20-4D3166288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C1F49-A91C-4935-9548-53CA41754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EC3EA-13B1-4786-B94B-B130C7F0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7EA99-10AE-48F1-8E3D-0871CCCB8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B7282-D38E-4E0B-AB6A-8235B010D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31E99-83BD-4C04-AC12-7F5AC442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662FA-28CC-4E36-97C9-47B61F0E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D2390-D561-432F-A764-1EC0EB152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DD476-1E58-435F-9E8E-5F05429DC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295DE-891A-43CB-996D-32B03D93B5F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BA5913-2836-4ECB-80AA-133470EEC00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