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49035311"/>
        <c:axId val="67493364"/>
      </c:barChart>
      <c:catAx>
        <c:axId val="49035311"/>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67493364"/>
        <c:crosses val="autoZero"/>
        <c:auto val="1"/>
        <c:lblAlgn val="ctr"/>
        <c:lblOffset val="100"/>
        <c:noMultiLvlLbl val="0"/>
      </c:catAx>
      <c:valAx>
        <c:axId val="67493364"/>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49035311"/>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9D78BE-9F35-4C39-8B5A-378A1CFB16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ACA82-D4BF-4960-A946-ED551FB36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475393-BCFA-440A-95A2-97726B27B1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FAB6B9-CAA3-45D4-A6C0-3BAAF4E375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B61792-76B2-4C82-9E55-41EDBC3FA5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71778E-DFD3-48B8-85E5-DEC5ADF56D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6045E6-CFF2-4022-B5B9-C97AE5C1F8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3D7C4B-78D3-4FA2-AE80-4A553683F2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42BABB-2FBE-4280-89DD-CAA80DC050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4A1A7A-FB65-4FCD-BE60-23F209DB3B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9BDC2D-DC86-446E-9F71-4F8885EF9D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CEF4F-6C75-4184-A90A-794AC89D0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18CC99-FF43-4A3B-842C-64BF35BD25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48789F-6461-476F-96A5-5BDCF60D9D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91EEBE-BA7E-40F8-9A6C-95279F34E1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EAEA6B-B5A8-4F85-A6F0-59C0D07219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D7F2F5-BAAA-403C-A0A9-628D8D0C8A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C6CDE-A135-4B2C-B25C-CB3633B66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0BE36-6AF4-4016-92B1-91AC32D78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3863E-828B-4C60-8F8E-0320201AC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4A51C-3274-4D57-948D-8CC075504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FEE3A-B632-4FC1-8DCF-76F128917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C07CD-A46B-4654-B661-90DDFCB3D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9AD56-E020-4F71-AA20-E12723F48F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EAD9E9-5EE3-4963-959F-BD7B99D5848C}"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49FC96-BB80-42CB-B4BF-99B8F22B3A57}"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