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30509014"/>
        <c:axId val="18666602"/>
      </c:barChart>
      <c:catAx>
        <c:axId val="30509014"/>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18666602"/>
        <c:crosses val="autoZero"/>
        <c:auto val="1"/>
        <c:lblAlgn val="ctr"/>
        <c:lblOffset val="100"/>
        <c:noMultiLvlLbl val="0"/>
      </c:catAx>
      <c:valAx>
        <c:axId val="18666602"/>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30509014"/>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28BF5-8F38-4A7A-AFAC-DB4D5BE69E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4B1DD-298F-4569-AFC4-B4893D3BF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76F0CA-E198-4CA6-90F9-0B8A640038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401E72-C81E-4339-85D7-47E662D32D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2A1DB4-D51E-44A5-94E6-A59F0BB434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4E3C0-B001-4FE8-8CE8-D90265E21C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9D175C-D29B-4465-8708-2937059ABC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71221-35CF-42EC-B681-5988BB1EB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5FF4ED-C96E-465E-A8B4-165C79199F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0D7F0-9D30-4950-9546-6547804A35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E7813-EDEF-4A2E-BDA7-DDABD313A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2278D-379F-4267-BFA9-C617D05A9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0EFA5-4E19-4983-90E7-3A8AF73C3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EFE7B-D83D-4884-8116-4BD6C6539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3831D3-E451-40CF-96BB-816133AC6B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742DA0-8920-46A2-BF6D-8E1B29DA9C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50D006-3AE2-4AB3-AD05-0088D39C44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A25AA-AF91-4CD1-BE84-421C5B252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300E5-18E5-46FC-B4CB-63E0D9E09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EFB98-9D5B-485B-915E-DF2C02B85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A7D6D-97FA-40C6-AA7F-98695CCF1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53394-A1DA-4034-8FFA-481904F7C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1AA67-E1A9-46D5-BC18-15CF02403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94252-9D47-41C6-AB7E-55CF9880DA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2930AE-BE02-45AD-B129-A6C274AADA4E}"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6197AF-BE6A-4BD3-9F30-25C45FFAFFF0}"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