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3354796"/>
        <c:axId val="3856838"/>
      </c:barChart>
      <c:catAx>
        <c:axId val="8335479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56838"/>
        <c:crosses val="autoZero"/>
        <c:auto val="1"/>
        <c:lblAlgn val="ctr"/>
        <c:lblOffset val="100"/>
        <c:noMultiLvlLbl val="0"/>
      </c:catAx>
      <c:valAx>
        <c:axId val="385683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335479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343EA-99C6-4711-B5D4-2C35D7444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4F59-04E9-4617-BA16-97AB22FC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BA38-020B-4669-8764-7C730D5A5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7114E-7C12-45EE-8090-74C021289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DAF58-C393-42DE-AF62-4C5BBE9CF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813B0-E0D2-470C-9299-222A6C682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01606-6438-4396-9D57-CCD651A50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730AC-4FBD-4451-A926-EABD040DB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39E44-7098-4191-93B2-1458D85D2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79554-6E91-4436-B0C4-EE7E66477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95807-2258-4AE0-92D6-C5EAF76C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991B-8AED-4370-ABE8-E1575017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A163E-3151-469F-9028-73B61D0D6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05E0-F833-46BB-853A-78FE0B655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1F31B-DD6D-4EB7-AE59-91424F5D8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71948-B665-40BA-84F2-B15165668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229AE-4E7A-4D1B-AE9A-6A3A0657B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DC851-5048-41FB-9AA1-F2FCD807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993B-48C3-4BBB-8664-D07FA7C82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17B8-5FBF-4F6B-947D-C2EDDAB3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D99AE-6809-4265-8682-B45EE0EB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77ED-BF0D-4B5B-836A-35221636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D148-4D62-4BF9-99C8-1248432D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E649-4AAA-470F-8A06-9038D2C98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11176-510A-4028-B4B7-4F6E9721FC3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7E2A40-CF13-4CEB-A18D-F3723BCA30D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