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8287819"/>
        <c:axId val="27735950"/>
      </c:barChart>
      <c:catAx>
        <c:axId val="9828781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7735950"/>
        <c:crosses val="autoZero"/>
        <c:auto val="1"/>
        <c:lblAlgn val="ctr"/>
        <c:lblOffset val="100"/>
        <c:noMultiLvlLbl val="0"/>
      </c:catAx>
      <c:valAx>
        <c:axId val="2773595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828781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F3C59-CC54-4765-B5DC-3F3887102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A10FD-DF03-4E7B-8221-DF7A19D2E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AE20C-5178-40E4-8DDA-8E5746CF9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4C2C7-AE80-4B16-863E-27D1922E2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DDEE2-DAB2-4AC4-B3FB-0E1D20438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B6CA0-6B22-4ED7-845D-0A7500D09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F43BD-DA01-4DBC-8537-F8DA48F48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D2106-5D69-4E0D-A545-9ED49A19B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4C3C9-2540-4B8B-A3C3-15CAE27EC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63D0C-825B-4A4C-862B-4353318E4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EAAC5-92E5-4554-8D43-1478BA6B2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D35BA-2152-4011-BAAE-7C4234EA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C96C-4670-4FFB-B8EA-CB51265AF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E777F-700E-49CD-9651-05BAD2501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AB112-B779-4209-A674-ACA03EA3D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23A1A-A170-4D78-AD4B-4246F1FE6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3C18E-76DB-429A-A176-68CD0E340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1F9A4-D9D4-48BB-A98F-1010D8BB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029F3-F56B-4DC1-A58C-16F1BE8E8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EC783-030D-4AC2-99B8-318541F38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7D78-4E29-4CDF-BAB4-20F71B691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0571-B6B9-4FC7-A540-007355BA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BDCE-ED55-40CA-A9C7-07E08E09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F734-B030-478E-8C18-1E6360495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A683B-12E0-4960-8902-BC2BBF4E847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12BF0-3F94-4D60-B90A-80084CF1780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