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66877814"/>
        <c:axId val="21480666"/>
      </c:barChart>
      <c:catAx>
        <c:axId val="66877814"/>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1480666"/>
        <c:crosses val="autoZero"/>
        <c:auto val="1"/>
        <c:lblAlgn val="ctr"/>
        <c:lblOffset val="100"/>
        <c:noMultiLvlLbl val="0"/>
      </c:catAx>
      <c:valAx>
        <c:axId val="21480666"/>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6877814"/>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D00A2-524F-4C89-9291-35B03839B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E5FD4-C1E8-4E03-9C8C-B3FBD18AE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777BD-7556-428B-B42C-832E14D72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9DC35-79F6-4BF7-9C87-7D3FF5A28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088C7-2230-4541-83B5-F124F677A3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ABDE7-E917-4A46-9C9A-58AFF545C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D36D5-E046-4B9E-ADBF-24347B246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BF1A5-54CD-4478-AD33-1A979900B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22970-1206-41D5-AE0E-97BB9015D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4FE37-D0D0-4844-B700-939A84C1D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CF5A3-AFFB-415C-9357-14B7ACB62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3C73B-EB83-4ACC-B407-410F07897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267FE-AACA-4633-84A3-6977436AD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75CDF-5152-4C6C-B028-C5CA926CA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E01E3-2EB0-46AC-ACCB-FC47FBF57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797924-27DF-4E93-807D-BD5411C786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1226CD-DF2B-48F0-82F3-20B36303FB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6503E-4188-4E74-9CB6-19DC81F1F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AAFFB-E974-4DFA-97C6-5E8B290D2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C9868-6A54-4C1C-9F2B-72BA295BB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D13BD-ED35-4729-97F3-30BE9445F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EA32E-086C-48D3-92F6-8BCC514C3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22387-80AB-4CDB-A33D-DD733BBF2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DF0F0-FF9D-4D3C-968E-88CEFABE7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65F19C-9544-41AE-BE95-72515ED98152}"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3B0FE0-4805-4C2F-94AA-4214B617753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