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5322159"/>
        <c:axId val="50302483"/>
      </c:barChart>
      <c:catAx>
        <c:axId val="2532215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0302483"/>
        <c:crosses val="autoZero"/>
        <c:auto val="1"/>
        <c:lblAlgn val="ctr"/>
        <c:lblOffset val="100"/>
        <c:noMultiLvlLbl val="0"/>
      </c:catAx>
      <c:valAx>
        <c:axId val="5030248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532215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5A0D4-FF7C-4DAF-A840-09CFE8738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8196F-A4CB-4160-8A82-B8BC3D100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FADFC-E83B-423E-B9A1-093F1E377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50EDE-1C29-4E8B-84E7-0D902BFB3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B038F-4BBE-44E8-8A37-73A82B76E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1A98D-8F34-408F-BF9F-C015A7F27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DAF0A-277A-42C4-A87E-D9E5EC516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7885E-327A-4914-BEED-88B7A74E6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D1179-8AE5-4A31-9664-8910E2C1B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501F2-22B4-4E22-8854-A0D5BB107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F3244-82BD-424E-9744-71EE74047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18C8D-DBB9-4E37-9FBE-944621DF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D65F6-F944-4B33-A993-1BAF62D99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CF5A9-E1FD-44F0-A650-11290143B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0D75B-9176-4890-AE32-9C7F1F0C6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EFFAE-0800-44E3-86A1-C7DABC663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F300F9-5F9B-4781-AE6D-84CBB611F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E64EA-C8C5-4015-A7DD-8FC9C30E6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32131-C136-469A-BB62-EF5DA5D45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9D692-75C8-4793-BDB5-AC203229A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B077E-7894-43FD-B72E-AEED7E5BF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3EFE-8465-4316-9016-1AB50644C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03FDE-1AE2-4F3C-A1D1-FE004954F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E2B05-8FA9-4F1D-BC9E-D88D07BCE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98FFCF-8552-413B-A89B-1F58888C468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27DB4B-68C1-4C43-8B6E-C09A11E80A4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