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68820440"/>
        <c:axId val="60492111"/>
      </c:barChart>
      <c:catAx>
        <c:axId val="68820440"/>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60492111"/>
        <c:crosses val="autoZero"/>
        <c:auto val="1"/>
        <c:lblAlgn val="ctr"/>
        <c:lblOffset val="100"/>
        <c:noMultiLvlLbl val="0"/>
      </c:catAx>
      <c:valAx>
        <c:axId val="60492111"/>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68820440"/>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7ABF23-8E28-4453-B7AC-FED4572CF4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473C7-FD65-4301-99FB-BF4E8EDC5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AC3A01-4CE6-4AC6-A850-756E28DA39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B3CE8-8CB4-488A-9D41-FB6D785BC6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6DA732-66A7-413D-9F41-B8A642EAE7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0CEDC8-3FD7-4FD7-B274-1FA9430098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30FB9D-A752-4B13-BB9E-B0F289F1A4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6AF8A7-46A4-4F9F-8B49-6816543E0D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A10634-5B63-489B-94B4-DB45ECB219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1056E0-6BEC-4E40-9BE1-5357159B44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BD90E-4CEF-4E5C-9E2E-12567A0CF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C2617-82B5-46CF-BB0E-356910032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F4426F-428C-4D9D-931E-9976BF7CCD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F8721-4B6C-41CD-8AF3-7E0D1901B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A7D1E6-9B66-41A6-82A5-25C3E8D524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B3EAD5-5EFC-4A29-B604-18D2B995EC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99E40E-D06F-447F-A69E-9E8C03B547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73180-439B-4DCD-88D5-2FAAECBBA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68A16-A646-443E-8F95-F9891D4D2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15543-8BD5-43D9-9B98-1FDEC7A65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29D23-8B3D-4047-98C9-E53F108ED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B9B19-57DA-4BA9-B52C-A7AC23788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A8F53-D7F9-467C-86BC-C52B6C6C1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D61C8-08CD-4786-84B6-8CD3A5C5FE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48B6A8-5FB7-49DB-A34D-FC6B37D9FDD6}"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A4FD2B-F3B4-49D7-A5DD-6631384C582E}"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