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49719222"/>
        <c:axId val="36557109"/>
      </c:barChart>
      <c:catAx>
        <c:axId val="49719222"/>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36557109"/>
        <c:crosses val="autoZero"/>
        <c:auto val="1"/>
        <c:lblAlgn val="ctr"/>
        <c:lblOffset val="100"/>
        <c:noMultiLvlLbl val="0"/>
      </c:catAx>
      <c:valAx>
        <c:axId val="36557109"/>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49719222"/>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FD67AD-1059-4418-AD9C-F8BEC8A5DA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11F185-B951-4C9D-A418-08B2B42AEB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439EC6-3FFF-4314-9545-8E6A5CA1DE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323D8D-D77C-4267-A581-57A2E46F7C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0C9828-A69C-468D-910B-D5F7C878B3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12577C-9EA0-4E48-AB3C-286364F911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C1409B-B43E-4B55-9AE9-E393D1F32F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1447CD-FBC4-4987-BC23-964F54E282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F98853-A442-46F5-B45C-BF34F8BA32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37716A-020D-441A-AF08-4D7CB8C7D0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0D9FBD-F6A2-4CEE-B7F9-0DD7E2148A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231D54-25A4-4052-940F-796E365F7B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FD6A53-D3E2-49B7-AD02-031C812298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404CA0-3717-4B33-B051-7F970B68AD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6269AD-5319-406A-890B-404F6B0A92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E94E7E-DE29-4BD3-AB0D-E95AF7C904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177962-E8B6-4907-A6B4-3512B6F431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1DB2B4-786A-4C32-B06E-034E9863B8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7B9D38-9AFE-4DF2-B938-3CAE3502B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944B4F-5FB6-47B2-82B0-E5C5FB7D44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0ED1CE-8FF0-4937-918A-07F2CA649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E80FC7-78DD-4614-9EF3-32E4CB3AC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C9523-7078-4864-8C30-7B762F573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8DEBC-AABF-4297-A241-AD5E495484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A396D5-95DB-46B1-9005-078F10817D5E}"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38CF66-E5D8-4B53-A14C-BCBAC8015784}"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