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9304589"/>
        <c:axId val="80444184"/>
      </c:barChart>
      <c:catAx>
        <c:axId val="9930458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444184"/>
        <c:crosses val="autoZero"/>
        <c:auto val="1"/>
        <c:lblAlgn val="ctr"/>
        <c:lblOffset val="100"/>
        <c:noMultiLvlLbl val="0"/>
      </c:catAx>
      <c:valAx>
        <c:axId val="8044418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930458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6ED3A-00F6-4F5A-9FFC-05415443D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758F7-DAC3-42F3-BE6C-D25D9FA2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4BA2-B4D4-48E8-BD10-86966B3CE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EA051-43FD-4AFD-AA6A-7EEC8D003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165F7-F196-495C-A124-9342CB4AD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47328-3D7D-4010-BB34-E22351384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53E56-A9D2-4C5C-982F-86D8DAFCE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5328A-DD21-43EF-9CAD-17344DE96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7C1E3-1368-44B9-B4D7-FBBA65D87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20247-CD5B-466B-9133-D810E0B5C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D288-D3C4-4920-AB6F-562980393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D51F-2AF3-4A8A-8D7C-73856694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4A0A-8756-4359-9DFD-2509890AE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29AD9-F1F2-4CE6-A0B1-C8886BEA2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25BBD-F374-4F66-879A-996E8F357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C9E75-C357-4636-B7EC-126801165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F6BC0-1B38-4DEA-8BC3-EAA5B4B64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E40C8-ACF1-434E-AACC-3693091F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261F-BC16-4218-8BBA-65C3F4ED6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AB00-3FFB-41D2-A72D-D5040B68C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16798-7865-4282-AE73-C6562AC90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631C-1512-45E8-9F02-9DF8E738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1A73-A396-47F1-A486-94F4BBF7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2776-30C5-4790-9506-C50141320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900E4-1FD6-4130-8434-24257A9037C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7CC1A-DA87-4833-B349-AC15B5F7EFD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