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55069874"/>
        <c:axId val="72874789"/>
      </c:barChart>
      <c:catAx>
        <c:axId val="55069874"/>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72874789"/>
        <c:crosses val="autoZero"/>
        <c:auto val="1"/>
        <c:lblAlgn val="ctr"/>
        <c:lblOffset val="100"/>
        <c:noMultiLvlLbl val="0"/>
      </c:catAx>
      <c:valAx>
        <c:axId val="72874789"/>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55069874"/>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4756A5-D820-4CF3-94C3-C97AA28B32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1E138-3C56-4AB4-8F06-736E8EAD0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2F1715-A897-41AA-88B4-F8FF10B9FF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D7727-4FB0-44A7-BCAE-AB2448FF4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0FF7AD-5D3A-4A3E-929D-06272304DB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E2418A-4F74-44B1-8751-2DDD55DEC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E586E5-4D5C-491C-BCE9-C4395E42A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AF9F3-BC3D-4A60-9F75-0B3B0DD1CA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554208-97CB-48E8-A7D7-14267E06FF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128FDC-FAB1-40F5-9290-87FBCF7733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4DC7A-E4A2-410E-88CE-9B18AE6C9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DFA24-C591-4C21-A738-1C9DF0F17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D2934-A543-480B-ABA5-901F794618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8F11B-CB61-44FE-897C-48DF834A9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C3A64-69C0-4736-A762-A7F9EB010A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43A2B2-E08D-43B7-8AAA-9BF4472A05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DB332B-FF30-46AD-99A6-76A8D8F11D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6B967-6E07-4A4F-A2A9-CBA47964D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ACCE2-D23D-4517-957A-F7F7DE51A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321DE-1243-4C19-9811-24C4440EF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C27CE-3820-4B4C-8262-308F8F28F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EDDF7-01B0-4B37-8ECC-2B9F31905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296FA-55C1-494F-98B8-279F18E11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0081C-403F-4F76-A623-6EA6990E6A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DB3117-2486-495F-B88E-5D3D1D1AD658}"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E6A4C7-5A5E-4125-A6E4-C7C86F561715}"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